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7"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function of the nervous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 system disor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keep your nervous system heal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rvous System</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rvous system is responsible for the perception of external and internal conditions and the body’s response to them. It has two major divisions: the central and peripheral nervous systems. The central nervous system (CNS) consists of the brain and the spinal cord; the peripheral nervous system includes two subsystems – the somatic and autonomic nervous systems. The brain is located in the cranial cavity of the skull, and the spinal cord in the spinal column, or backbone. Both are protected by cerebrospinal fluid and a series of three membranes called meninges. The CNS receives information from the skin and muscles and sends out motor commands as well. The brain functions as the center of instinctive, emotional, and cognitive proces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inal cor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nial cavity</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ospinal flui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ninge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d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ndbrai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ncephalo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um</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tex</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ellum</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n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 oblong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dr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nervous system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central and peripheral nervous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brain fu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rain composed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foreb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the midb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 of the brain receives incoming messages fir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erebel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medulla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 of the brain controls sleep and dream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glial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neurons consist of?</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hat mean:</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rving the blame or credit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give out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or the right half of the cereb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lik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lender, threadlike stru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djectives from the following nouns:</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sp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b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dr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aps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words in column A with the corresponding words in column B:</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acerebral                                                     accid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ay                                                                  concu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inal                                                                ca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rebrovascular                                                mat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nial                                                               haemorrh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in                                                                  ner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                                                                  inju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vi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cular                                                           twitch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oluntary                                                        tic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required form:</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write) to him bef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if he (keep) on repeating the same qu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alk as if you (know) every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ey (do) such a 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ooks as though we (have) an interesting topic to discu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can) go there tomorrow.</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0:53:26Z</dcterms:modified>
  <cp:revision>24</cp:revision>
  <dc:subject/>
  <dc:title>Slide 1</dc:title>
</cp:coreProperties>
</file>